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79207-1A95-4699-94AD-0A970A5A3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3D422-DF7C-4D4B-8BE3-4E99695EA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D61E4-C256-4BCC-844A-B7C7504C9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18BAD-22C8-41D1-9444-BA117BDB2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D595E-185C-4034-A266-274E56391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6E451-19BC-4E27-86F9-A670AF7BE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85C81-4B4A-44A2-BC79-977257F3D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DD16E-3584-4909-9B53-918AA10EF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8F11B-D731-4891-A086-55968DB94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0DF10-C1DA-4E48-BC76-5F7A0280F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7571F-DE78-4937-AE6C-9ACC67F9E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DF609-2219-4822-8E53-F6EFCA9A3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7853-689B-42FB-8FAE-B3AED0225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Famil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xygen, Sulfur, Selenium, Tellurium, Poloniu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metals and Metalloi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onium and tellurium are matallo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xygen, sulfur, and selenium are non-met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40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type="subTitle"/>
          </p:nvPr>
        </p:nvSpPr>
        <p:spPr>
          <a:xfrm>
            <a:off x="1371600" y="691920"/>
            <a:ext cx="6400800" cy="5832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cation</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located in group 6A which indicated that they have 6 valence electron, and they are rea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are they?</a:t>
            </a:r>
            <a:endParaRPr b="0" lang="en-US" sz="4400" spc="-1" strike="noStrike">
              <a:solidFill>
                <a:srgbClr val="000000"/>
              </a:solidFill>
              <a:latin typeface="Arial"/>
            </a:endParaRPr>
          </a:p>
        </p:txBody>
      </p:sp>
      <p:sp>
        <p:nvSpPr>
          <p:cNvPr id="4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oxygen family is found all through the air that we breath to the soil that we step 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ing Subjec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our family interesting is that oxygen is located in that family. Without oxygen there would not be human life on earth. Oxygen is what lets us breath and not suffocate with the poor oxygen that the atmosphere provid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xygen family is used in many ways. We use oxygen to blow up balloons to put at parties and we also use oxygen to give mouth to mouth resuscitation and bring someone back to life which is a very important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1:05:32Z</dcterms:created>
  <dc:creator>tatumadmin</dc:creator>
  <dc:description/>
  <dc:language>en-US</dc:language>
  <cp:lastModifiedBy>tatumadmin</cp:lastModifiedBy>
  <dcterms:modified xsi:type="dcterms:W3CDTF">2009-12-04T21:17:35Z</dcterms:modified>
  <cp:revision>3</cp:revision>
  <dc:subject/>
  <dc:title>Oxygen Family</dc:title>
</cp:coreProperties>
</file>